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A1F-6203-4C2C-BBA8-909279FF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016-82F3-4AEC-BB2C-D27F65C5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93A-3221-43DC-A090-9B343BE9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750-97CA-48FD-B8C2-DEB348F0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C708E-8C16-4441-B0A0-ECA995C6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68E88-4261-45DD-A29C-82935D14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079BA-64D3-4539-B8FD-2C00F556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D1944-6D6E-44E9-9E53-E96CBEAB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FFC6C-332D-4AEC-97A4-5F82F8F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71B13-3C79-47B5-A312-723B5CB4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7167E-4A04-4A99-9FDA-B1B79C26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738-AB5A-4B75-8E6B-1F70C0AE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58D6D-98A3-41B0-A432-CCFBABE9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26348-176C-4ACF-A06C-C8D5C5D7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D6C7F-1989-477C-87E5-D525A7DC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29128-428F-4193-BE78-F2D752F5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E2BA4-FEF0-43FB-912D-1995B906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5151-C656-461C-875B-459506D7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C403-AE0D-4C3E-9A99-225EB3BF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C6360-70A7-4791-8757-B3F620D3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2875-B566-40C9-A455-A89F0FF8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43811-F994-426D-BB1C-26853991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9C5-B1AB-41BF-8E96-62E52A2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D361-0E62-4E1C-8CB4-B9163F0C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ABAD-7A52-425B-A114-17D98CA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AC0C-5B03-4DB8-9341-B480B874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35D0-EA5B-4E40-ABBD-46D95C7C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5ADD-55CC-4FD0-894D-83CEB6A2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FEC4-0F30-4EAA-AA4F-F5C2C274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8454-37A0-4EF2-9FEC-57F1988C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0D25B-A5D9-4C3F-9D62-DA0A00AE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EDE8D-9458-4A6A-8565-BCB8D4B3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FF164-18AD-46B0-982B-FA843455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3C3-8774-43FB-9C07-2375D4F7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6CAE-B032-481D-A950-5606C4B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F1F5C-E433-470B-B199-D9F60854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90D65-DCAB-420C-8652-EA31005C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76FE-100B-4148-99DA-14C8D6F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D6CE7-1D2F-4E2A-B635-64C9587F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23F42-ED01-43DE-B778-2C0D9FF0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D2EA-E627-4A9E-9BE8-FF1AAF10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E3692-2A16-4C47-8A19-7C8E33A1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F9420-E258-4C16-ACBB-1D9C6A61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054-AF0C-4763-8ECD-4A7F6FD5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1ED-C7D1-46EE-AB46-62D17F28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648-0E8E-4306-9307-A106469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465-B4BA-4592-8025-0B0AB1FB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184-3843-48AF-AC63-4F85A7EA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2CF4-56EB-4A1F-9B88-01D9FC71DC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CE04-C063-4CD0-AFB2-FF2FFAB7B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0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4DC5-ABA8-403D-AB6D-492FC4B639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22A4-4019-457A-8DA2-2A4DE2B41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52280" y="3808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„ </a:t>
            </a:r>
            <a:r>
              <a:rPr b="1" lang="uk-UA" sz="5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формлення житлових субсидій за спрощеним порядком ”</a:t>
            </a:r>
            <a:endParaRPr b="0" lang="en-US" sz="5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иклади розрахунку розміру субсиді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иклад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ля домогосподарства 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ї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ацездатної особи,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яка має середньомісячний сукупний дохід 3952 гривні на місяц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52280" y="2971800"/>
          <a:ext cx="8610840" cy="3807000"/>
        </p:xfrm>
        <a:graphic>
          <a:graphicData uri="http://schemas.openxmlformats.org/drawingml/2006/table">
            <a:tbl>
              <a:tblPr/>
              <a:tblGrid>
                <a:gridCol w="6931080"/>
                <a:gridCol w="167976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ьомісячний сукупний дохід сім'ї, (грн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2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ельність осіб у домогосподарств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ьомісячний сукупний дохід на одну особу, (грн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2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мір плати за житлово-комунальні послуги в межах норм, (грн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соток обов'язкового платежу (%)</a:t>
                      </a:r>
                      <a:br>
                        <a:rPr sz="1800"/>
                      </a:b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952,67 грн./1176/2*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1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мір обов'язкового платежу (грн.)</a:t>
                      </a:r>
                      <a:br>
                        <a:rPr sz="1800"/>
                      </a:b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952,67 грн .* 25,19%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мір субсидії (гр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95,67 грн. – 730 грн.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рафік прийому громадян на даний ча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52280" y="2057400"/>
          <a:ext cx="8839440" cy="3753000"/>
        </p:xfrm>
        <a:graphic>
          <a:graphicData uri="http://schemas.openxmlformats.org/drawingml/2006/table">
            <a:tbl>
              <a:tblPr/>
              <a:tblGrid>
                <a:gridCol w="1905120"/>
                <a:gridCol w="2438280"/>
                <a:gridCol w="2057400"/>
                <a:gridCol w="1295640"/>
                <a:gridCol w="11430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ідді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др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ини прий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влінн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раці та соціального  захисту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сп. Повітрофлотський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Щоденно, крім вихідних з 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 обслуговува-ння споживачів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Героїв Севастополя, 14-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неділо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’ятниц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та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 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афік прийому громадян з 05.05.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0880" y="762120"/>
          <a:ext cx="8483760" cy="2765160"/>
        </p:xfrm>
        <a:graphic>
          <a:graphicData uri="http://schemas.openxmlformats.org/drawingml/2006/table">
            <a:tbl>
              <a:tblPr/>
              <a:tblGrid>
                <a:gridCol w="2515680"/>
                <a:gridCol w="2433240"/>
                <a:gridCol w="216000"/>
                <a:gridCol w="3318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ідділе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дре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ини прийо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вління праці та соціального захисту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сп. Повітрофлотський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Щоденно, крім вихідних з 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Гарматна,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П “Батиївське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Соло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нська, 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80880" y="3581280"/>
          <a:ext cx="8483760" cy="3110040"/>
        </p:xfrm>
        <a:graphic>
          <a:graphicData uri="http://schemas.openxmlformats.org/drawingml/2006/table">
            <a:tbl>
              <a:tblPr/>
              <a:tblGrid>
                <a:gridCol w="2512440"/>
                <a:gridCol w="2436480"/>
                <a:gridCol w="216000"/>
                <a:gridCol w="3318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П“Відрадненське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М.Донця,15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неділок 1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ереда 1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ятниця 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убота 1 та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 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П “Індустріальне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Виборзька, 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П “Грушківське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льв. Лепсе, 23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877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афік прийому громадян з 06.05.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8600" y="762120"/>
          <a:ext cx="8763120" cy="54831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діле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ни прийо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вління праці та соціального захисту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сп. Повітрофлотський,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Щоденно, крім вихідних з 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Гарматна,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П “Батиївське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Соло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нська, 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неділок 1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ереда 1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ятниця 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убота 1 та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 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П “Відрадненське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М. Донця, 15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П “Індустріальне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Виборзька, 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П “Грушківське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льв. І. Лепсе, 23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П “Залізничне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Єреванська, 3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П “Чоколівське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ул. Волинська, 4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uk-UA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ціальні норми </a:t>
            </a:r>
            <a:r>
              <a:rPr b="1" lang="uk-UA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uk-UA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ристуванн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  на  1  особ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ування житлом/ утримання житла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65 кв.м загальної площі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(додатково 35,22 кв.м н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господарство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ізоване та індивідуальне опалення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65 кв.м опалювальної площі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датково 35,22 кв.м н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господарство)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ціальні норми користування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чання холодної води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  куб. метра на місяць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наявності центр.постачання гарячої  води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  куб. метра на місяць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відсутності центр.постачання гарячої води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чання гарячої води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6  куб. метра на одну особ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відведення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  куб. метра на одну особ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0400" y="228240"/>
            <a:ext cx="772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ціальні норми користування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постачан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удинках, обладнаних стаціонарними електроплит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кВт год. на сім’ю з однієї особи + 30 кВт год. на іншого члена сім’ї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е не більше 250 кВ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удинках, не обладнаних стаціонарними електроплит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кВт год. на сім’ю з однієї особи + 30 кВт год. на іншого члена сім’ї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 не більше 210 кВт на місяц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ціальні норми користуванн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постачанн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палення в опалювальний періо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1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щі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азову плиту (приготування  їжі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дну особу на місяц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азову плиту (приготування  їжі і підігрів вод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дну особу  на місяц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азову  плиту  і водонагрівач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дну особу на місяц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ула розрахунку 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в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`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язкового платеж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ередньомісячний дохід на одну особ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:2  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базова норма плати 1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ожитковий мінімум на одну особу (1176 гр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228600" y="41148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5715000" y="396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5714640" y="396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Таблиця розмірів оплати житлово-комунальних послуг осіб, які стали учасниками </a:t>
            </a: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п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рограми субсиді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2017800"/>
          <a:ext cx="8726400" cy="4173480"/>
        </p:xfrm>
        <a:graphic>
          <a:graphicData uri="http://schemas.openxmlformats.org/drawingml/2006/table">
            <a:tbl>
              <a:tblPr/>
              <a:tblGrid>
                <a:gridCol w="1247760"/>
                <a:gridCol w="1246320"/>
                <a:gridCol w="1247760"/>
                <a:gridCol w="1243080"/>
                <a:gridCol w="1247760"/>
                <a:gridCol w="1245960"/>
                <a:gridCol w="124776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хід на 1 особу на місяць(гри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в’язкова плата від доходу за жк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змір щомісячного платежу для сім’ї (гривень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 1 осо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 2 осі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 3 осі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 4 осі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 5 осі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1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3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7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1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9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6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5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4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6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8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0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,8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9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8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8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7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7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иклади розрахунку розміру субсиді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иклад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ля домогосподарства 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ї працездатної особи та однієї дитини,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які мають середньомісячний сукупний дохід 3952 гривні на місяц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2280" y="2971800"/>
          <a:ext cx="8610840" cy="3807000"/>
        </p:xfrm>
        <a:graphic>
          <a:graphicData uri="http://schemas.openxmlformats.org/drawingml/2006/table">
            <a:tbl>
              <a:tblPr/>
              <a:tblGrid>
                <a:gridCol w="6931080"/>
                <a:gridCol w="167976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ьомісячний сукупний дохід сім'ї, (грн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2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ельність осіб у домогосподарств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ьомісячний сукупний дохід на одну особу, (грн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6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мір плати за житлово-комунальні послуги в межах норм, (грн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соток обов'язкового платежу (%)</a:t>
                      </a:r>
                      <a:br>
                        <a:rPr sz="1800"/>
                      </a:b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976,34 грн./1176/2*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мір обов'язкового платежу (грн.)</a:t>
                      </a:r>
                      <a:br>
                        <a:rPr sz="1800"/>
                      </a:b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952,67 грн * 12,6%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мір субсидії (гр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00 грн – 498,4 грн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иклади розрахунку розміру субсиді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иклад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ля домогосподарства 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вох пенсіонерів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які мають середньомісячний сукупний дохід 1898 гривні на місяц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2971800"/>
          <a:ext cx="8610840" cy="3807000"/>
        </p:xfrm>
        <a:graphic>
          <a:graphicData uri="http://schemas.openxmlformats.org/drawingml/2006/table">
            <a:tbl>
              <a:tblPr/>
              <a:tblGrid>
                <a:gridCol w="6931080"/>
                <a:gridCol w="167976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ьомісячний сукупний дохід сім'ї, (грн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ельність осіб у домогосподарств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ьомісячний сукупний дохід на одну особу, (грн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мір плати за житлово-комунальні послуги в межах норм, (грн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соток обов'язкового платежу (%)</a:t>
                      </a:r>
                      <a:br>
                        <a:rPr sz="1800"/>
                      </a:b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49 грн,./1176/2*1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мір обов'язкового платежу (грн.)</a:t>
                      </a:r>
                      <a:br>
                        <a:rPr sz="1800"/>
                      </a:b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98 грн. * 6,05%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мір субсидії (гр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00 грн. – 114,83грн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5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08:34:00Z</dcterms:created>
  <dc:creator>1</dc:creator>
  <dc:description/>
  <dc:language>en-US</dc:language>
  <cp:lastModifiedBy>user</cp:lastModifiedBy>
  <dcterms:modified xsi:type="dcterms:W3CDTF">2015-05-13T14:59:37Z</dcterms:modified>
  <cp:revision>57</cp:revision>
  <dc:subject/>
  <dc:title>ДОПОВІДЬ на апаратну нараду у голови Солом’янської районної в місті Києві державної адміністрації 21 квітня 2015 року з питання „ Оформлення житлових субсидій за спрощеним порядком”</dc:title>
</cp:coreProperties>
</file>